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951-D578-49DF-880E-700F35C6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722-4C1A-4ED3-BCE9-C738AC5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279-5826-4ECE-90CD-A3E1879C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5D7-B243-40C0-83A9-1B34760A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D99-007E-4ECC-94DA-E819F6D0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B41-2A60-4ABA-A93E-A76FD56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EF4-E1E7-4D21-8C3F-D53E437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858-5DBC-411C-AA7F-30382B47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18F-96AF-4E59-93A3-E5207BA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6F3-A0F4-4849-9CC0-8E17648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E2A-B0BE-4422-8464-B8DE0DD0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9B7-26D5-454E-A51A-29B3A5D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951-5F8B-4086-9354-75507B73D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00605.dfdlxx.net/jiaoshi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435640" y="5300640"/>
            <a:ext cx="2954160" cy="649080"/>
            <a:chOff x="5435640" y="5300640"/>
            <a:chExt cx="2954160" cy="649080"/>
          </a:xfrm>
        </p:grpSpPr>
        <p:sp>
          <p:nvSpPr>
            <p:cNvPr id="43" name=""/>
            <p:cNvSpPr/>
            <p:nvPr/>
          </p:nvSpPr>
          <p:spPr>
            <a:xfrm>
              <a:off x="5435640" y="5300640"/>
              <a:ext cx="50472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85080" y="5300640"/>
              <a:ext cx="50472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628640"/>
            <a:ext cx="8604360" cy="17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高中生，你该如何学习？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80000" y="5734080"/>
            <a:ext cx="536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一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25092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记笔记（要提纲挈领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在教师指导下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课本上有的如公式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适用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使用时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⑶老师指出的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特别容易混淆和出错的地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记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⑷利用课堂的间隙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见缝插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与教师同步写，利用教师做运算的时间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⑸对典型例题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一定先听分析讲解，简单记下方法即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千万不要因为记笔记而面影响听课，否则，就是丢了西瓜捡芝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借用好同学的笔记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补遗漏、借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要阶段性地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掌握好学习的步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前适当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预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做到会预习和适度预习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⑵学习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性加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⑶精读（学会思考钻研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⑷培养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自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⑸对于课外知识要多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积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做到厚积薄发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了解各学科各阶段的特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学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严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逻辑性强，知识之间联系紧密，要求逻辑思维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基础知识和写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日积月累，厚积薄发，高中更注重阅读理解、写作等能力方面的训练，作文有内容可写，有感而发，内容具体生动，细致的观察能力，丰富的能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——</a:t>
            </a:r>
            <a:r>
              <a:rPr b="1" i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单词和语法，阅读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抓好基础，以不变应万变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习理科，一定要重质量而不是数量，也就是说，做一道题一定弄懂吃透，可以反复几次来回思考，从各个角度考虑，这样做会一题胜过做十题，也只有这样才能做到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举一反三，触类旁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总之，学习数理化，关键是要抓基础，有了好的基础，难题不愁解不出来，因为难题也是由基础题演变而来的，所谓“万变不离其宗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习文科，应注重数量到质量的飞跃。如：语文的学习平时应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注意量的积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从字词到句子），可以准备一个小本子，平时看书读报，看到好的词汇、句子记下来，平时自己有了什么感想也应该写出来，这样坚持一段时间，语言知识自然丰富了，阅读分析能力也会提高，写作时也有话可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复习整理――对知识消化、整理的过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回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天的重点、难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看笔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把自己对知识的领悟记下来，对笔记做一些圈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新学的公式，一定要注意公式的结构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公式顺用、逆用、变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理解透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独立作业 ――强化训练的过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记：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要一边翻书一边写作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，先看书，感觉都理解了再做题，做作题时遇到不会的问题先放下，然后做其他的题，最后再回过头来看书，找出题解不出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布置的作业 应先做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辅助练习应自觉完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老师教到哪里就做到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实时小结――对知识系统化的过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表的形式（可以用大括号）列出知识的框架，越详细越好。某一个定理公式可用来解决哪些问题，这类问题有哪些主要的题型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断地对所学知识进行总结，就能使所学过的知识在头脑中始终有一个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清晰的脉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学习起来很轻松，效果也一定令你满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925200"/>
            <a:ext cx="91440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重视记忆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一切知识不过是记忆，而创造不过是运用记忆”，要遵循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机械记忆、理解记忆、创造记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步骤。切忌“死背书、背死书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多练笔，练好笔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练题不过是练兵，题“海”战术，是个过程，是“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量变到质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过程，但要“精”，“精选”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527880" y="620640"/>
            <a:ext cx="2616120" cy="6237360"/>
            <a:chOff x="6527880" y="620640"/>
            <a:chExt cx="2616120" cy="62373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391520" y="620640"/>
              <a:ext cx="17524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6527880" y="4699080"/>
              <a:ext cx="261612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勤思考，多发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习时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记笔记时思考；老师讲课时思考（很重要）；做题时思考；看书时思考；有问题不遗留，最好有积累问题的本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自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底学多长时间适宜：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高中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3-4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每周六、周日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393080" y="184464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我管理、自我教育、自我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213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段考时间安排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14972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离考试还有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16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正确的心态，健康的心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们应该正确对待学习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万别把自己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陷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拿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定位自己在老师和同学心目中的位置的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怪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何时候都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不要放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自己能增加分数的机会（不含非法所得）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有为提高自己的成绩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付出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准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360" y="5734080"/>
            <a:ext cx="360036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求学不是求分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932360" y="5734080"/>
            <a:ext cx="360036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求学不是求分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2320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老师眼里的学生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考试分数固然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6699"/>
                </a:solidFill>
                <a:uFillTx/>
                <a:latin typeface="Arial"/>
              </a:rPr>
              <a:t>但你的智慧更令我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处理好与老师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与老师——尊重老师，调整自己不断适应老师的讲课方式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不要因为不喜欢老师而放弃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84720" y="4581360"/>
            <a:ext cx="201780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危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628640"/>
            <a:ext cx="1303200" cy="170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于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自己提不出问题来，当别的同学去问问题的时候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一定要跟着一块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同学所问，老师所讲，一定对你有所启发、有所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4653000"/>
            <a:ext cx="2590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帮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顺利通过交友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之间：在班级里接触面要广，和谁都要交谈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和同学的关系融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会使自己的心情愉快，学习自然感到轻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帮互学，博采众长。平时应多跟同学探讨问题，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乐于向同学请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如果同学有问题向你请教，你应该尽可能把你知道的讲清楚，这样对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双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特别有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"/>
              </a:rPr>
              <a:t>帮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用正确的态度认识人与人的关系，做到学会适应，善于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404640"/>
            <a:ext cx="8569080" cy="6193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  <a:effectLst>
            <a:outerShdw dist="228946" dir="2022903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计划的重要性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良好的开头是成功的一半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成长计划（越来越被人忽视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目标的重要性（彼岸的距离，即奋斗目标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学习目的性要加强，意识到学习的重要性，并积极的采取行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92360" y="5157720"/>
          <a:ext cx="5616360" cy="125568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6360"/>
                <a:gridCol w="935280"/>
                <a:gridCol w="936360"/>
              </a:tblGrid>
              <a:tr h="6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1520" y="62064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27880" y="469908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养成良好的学习习惯，掌握科学的学习方法，提高学习效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0072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高效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记笔记（要提纲挈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掌握好学习的步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了解各学科各阶段的特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抓好基础，以不变应万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复习整理――对知识消化、整理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独立作业 ――强化训练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实时小结――对知识系统化的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重视记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多练笔，练好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勤思考，多发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自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619600"/>
            <a:ext cx="3371760" cy="123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33336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27880" y="469908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907920"/>
            <a:ext cx="8351640" cy="55454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高效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是学习中最重要的一环积极思考，紧跟老师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老师讲的某一个问题没有听懂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先快速地用简单的几个字记下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课后再找同学或老师帮助解决，一定要跟着老师的思路往前走，否则的话，一旦被其个别问题所困惑，就会影响整堂课的听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21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6:06Z</dcterms:modified>
  <cp:revision>5</cp:revision>
  <dc:subject>主题班会课件(分28大类): http://shop62905894.taobao.com</dc:subject>
  <dc:title>主题班会课件(分28大类): http://shop62905894.taobao.com</dc:title>
</cp:coreProperties>
</file>